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19443-236E-4634-BF6C-68044BEC9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025D5-C668-4F46-86EB-CCDD131D6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DE2A1-AF93-4DD8-A398-84ECC7BB5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13FB2-3F66-4388-ACC2-6C9CF7EE5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9B6BA-F9B4-42BA-951B-60B1B7C10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56286-8E18-4543-A708-4883C8C94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B1CA0-EA57-4AA9-BD06-756462886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9CDEA-377F-4823-A3CE-2CC83A58D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C04DD-0AC7-4501-BDA5-C517DA07F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8D9A-A122-4FC3-89D3-D441AAD3D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D715F-5E97-421A-BB28-C226A9D70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7302F-CE83-4FBE-9CEF-C14486910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EE79-9E6E-4767-A4D9-81705C4E0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5DF57-9D36-4389-86AD-A91D9597A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C294D-9EB8-430B-AA09-5D15669D2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397F2-6086-4142-A0FD-983B69A15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22C73-5436-47D9-8A91-2602CB176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76826-E2B0-49BE-B572-09A15D53C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77FA-44E7-414E-BCB7-29B50FD2B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AEE86-ECC0-4533-A747-6BBE540FF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0809-65AC-4746-892B-519D3397E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AFA9-ECA7-427F-B6DD-3266C7636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C807-ED8D-4F79-934B-DD671AEB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075E-FBDE-422E-9F97-6A087429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31A7-7023-4110-8C02-7CB92F7EDDD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Click to edit the title text format</a:t>
            </a:r>
            <a:endParaRPr b="0"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EA09-CFA0-44D5-B82B-AB70E9D9A8B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d6fc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ff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images.google.com/imgres?imgurl=http://teachinglife.today.com/files/2008/12/school-money.jpg&amp;imgrefurl=http://teachinglife.today.com/2008/12/&amp;usg=__6LCsyzI5Ilrr3Na0fwDEepuaU1s=&amp;h=242&amp;w=320&amp;sz=9&amp;hl=en&amp;start=3&amp;tbnid=cAU9p8vkjGULIM:&amp;tbnh=89&amp;tbnw=118&amp;prev=/images%3Fq%3Dschool%2Bmoney%26gbv%3D2%26hl%3Den%26sa%3DG" TargetMode="External"/><Relationship Id="rId6" Type="http://schemas.openxmlformats.org/officeDocument/2006/relationships/image" Target="../media/image2.jpeg"/><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0"/>
            <a:ext cx="5105160" cy="457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Chapter 13 Finance</a:t>
            </a:r>
            <a:endParaRPr b="0" lang="en-US" sz="2400" spc="-1" strike="noStrike">
              <a:solidFill>
                <a:srgbClr val="ffff99"/>
              </a:solidFill>
              <a:latin typeface="Arial"/>
            </a:endParaRPr>
          </a:p>
        </p:txBody>
      </p:sp>
      <p:sp>
        <p:nvSpPr>
          <p:cNvPr id="153" name="PlaceHolder 2"/>
          <p:cNvSpPr>
            <a:spLocks noGrp="1"/>
          </p:cNvSpPr>
          <p:nvPr>
            <p:ph type="subTitle"/>
          </p:nvPr>
        </p:nvSpPr>
        <p:spPr>
          <a:xfrm>
            <a:off x="151920" y="685800"/>
            <a:ext cx="8991720" cy="59436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School Funding and Taxes</a:t>
            </a:r>
            <a:endParaRPr b="0" lang="en-US" sz="2400" spc="-1" strike="noStrike">
              <a:solidFill>
                <a:srgbClr val="ffffff"/>
              </a:solidFill>
              <a:latin typeface="Tahoma"/>
            </a:endParaRPr>
          </a:p>
          <a:p>
            <a:pPr>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 power of taxation for education resides with the state limited only by federal and state constitution.</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State constitutional provisions allow the legislature to make provisions for a system of public schools and to tax citizens for support of public education.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 legislature has the inherent power not only to tax citizens for support of education but also to distribute funds for the operation of public schools.</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ax distribution formulas are determined by the legislature based on the needs of various types of school districts and the ability of citizens in those districts to support public education.</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4" name="" descr="">
            <a:hlinkClick r:id="rId5"/>
          </p:cNvPr>
          <p:cNvPicPr/>
          <p:nvPr/>
        </p:nvPicPr>
        <p:blipFill>
          <a:blip r:embed="rId6"/>
          <a:stretch/>
        </p:blipFill>
        <p:spPr>
          <a:xfrm>
            <a:off x="3429000" y="457200"/>
            <a:ext cx="2057400" cy="1295280"/>
          </a:xfrm>
          <a:prstGeom prst="rect">
            <a:avLst/>
          </a:prstGeom>
          <a:ln w="66600">
            <a:solidFill>
              <a:srgbClr val="00ffff"/>
            </a:solidFill>
            <a:miter/>
          </a:ln>
        </p:spPr>
      </p:pic>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228240"/>
            <a:ext cx="8229600" cy="624852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Legal Challenges to School Taxation</a:t>
            </a: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Serrano v. Priest—</a:t>
            </a:r>
            <a:r>
              <a:rPr b="1" lang="en-US" sz="2400" spc="-1" strike="noStrike">
                <a:solidFill>
                  <a:srgbClr val="ffffff"/>
                </a:solidFill>
                <a:latin typeface="Franklin Gothic Book"/>
              </a:rPr>
              <a:t>Case that supported equal protection challenge regarding disparities in funding and that the quality of a child’s education should not be a function of the wealth of the district in which the child resides.   </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Robinson v. Cahill—</a:t>
            </a:r>
            <a:r>
              <a:rPr b="1" lang="en-US" sz="2400" spc="-1" strike="noStrike">
                <a:solidFill>
                  <a:srgbClr val="ffffff"/>
                </a:solidFill>
                <a:latin typeface="Franklin Gothic Book"/>
              </a:rPr>
              <a:t>Case which decided that funding of public schools that rely heavily on local property taxes violated the state constitution as well as the equal protection clause of the 14th Amendment.</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ranklin Gothic Book"/>
              </a:rPr>
              <a:t>Education Act of 1975—</a:t>
            </a:r>
            <a:r>
              <a:rPr b="1" lang="en-US" sz="2400" spc="-1" strike="noStrike">
                <a:solidFill>
                  <a:srgbClr val="ffffff"/>
                </a:solidFill>
                <a:latin typeface="Franklin Gothic Book"/>
              </a:rPr>
              <a:t>mission is to develop a thorough and efficient system of free public schools for all children irrespective of socioeconomic status or geographical location.</a:t>
            </a:r>
            <a:endParaRPr b="0" lang="en-US" sz="2400" spc="-1" strike="noStrike">
              <a:solidFill>
                <a:srgbClr val="ffffff"/>
              </a:solidFill>
              <a:latin typeface="Tahoma"/>
            </a:endParaRPr>
          </a:p>
        </p:txBody>
      </p:sp>
      <p:pic>
        <p:nvPicPr>
          <p:cNvPr id="156" name="" descr="http://rlv.zcache.com/vote_for_better_education_mug-p1685810593287511653gsa_400.jpg"/>
          <p:cNvPicPr/>
          <p:nvPr/>
        </p:nvPicPr>
        <p:blipFill>
          <a:blip r:embed="rId4"/>
          <a:stretch/>
        </p:blipFill>
        <p:spPr>
          <a:xfrm>
            <a:off x="3200400" y="609480"/>
            <a:ext cx="2514600" cy="1752840"/>
          </a:xfrm>
          <a:prstGeom prst="rect">
            <a:avLst/>
          </a:prstGeom>
          <a:ln w="57240">
            <a:solidFill>
              <a:srgbClr val="ff6600"/>
            </a:solidFill>
            <a:miter/>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8240" y="228600"/>
            <a:ext cx="8458200" cy="6400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Franklin Gothic Book"/>
              </a:rPr>
              <a:t>San Antonio Independent School District </a:t>
            </a:r>
            <a:r>
              <a:rPr b="1" lang="en-US" sz="2400" spc="-1" strike="noStrike">
                <a:solidFill>
                  <a:srgbClr val="00ffff"/>
                </a:solidFill>
                <a:latin typeface="Franklin Gothic Book"/>
              </a:rPr>
              <a:t>v. Rodriguez</a:t>
            </a: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Mexican American parents in Edgewood filed a class action equity suit on behalf of minority children throughout the state who were poor and resided in a school community that had a low property tax base.</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 Supreme Court's decision held that a school-financing system based on local property taxes was not an unconstitutional violation of the 14</a:t>
            </a:r>
            <a:r>
              <a:rPr b="1" lang="en-US" sz="2400" spc="-1" strike="noStrike" baseline="30000">
                <a:solidFill>
                  <a:srgbClr val="ffffff"/>
                </a:solidFill>
                <a:latin typeface="Franklin Gothic Book"/>
              </a:rPr>
              <a:t>th</a:t>
            </a:r>
            <a:r>
              <a:rPr b="1" lang="en-US" sz="2400" spc="-1" strike="noStrike">
                <a:solidFill>
                  <a:srgbClr val="ffffff"/>
                </a:solidFill>
                <a:latin typeface="Franklin Gothic Book"/>
              </a:rPr>
              <a:t> Amendment's equal protection clause. The majority opinion stated that the appellees did not sufficiently prove that education is a fundamental right or that the financing system was subject to strict scrutiny.</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According to the Rodriguez ruling, a funding system based on local property tax that provides a minimum education to all students is constitutional.</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Rodriguez case removed school finance litigation from the federal courts to the state courts.</a:t>
            </a:r>
            <a:endParaRPr b="0" lang="en-US" sz="24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Franklin Gothic Book"/>
              </a:rPr>
              <a:t>Post-Rodriguez Decision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Following the Rodriguez decision, courts have been more inclined to focus their attention on educational quality as influenced by teacher quality, appropriate instructional materials, student achievement scores, and graduation rates as a means of addressing equal opportunity provision for students.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There is no uniformity among courts in their decisions regarding adequacy of funding for public schools.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State may collect tax funds from wealthy school districts and redistribute them to poorer districts to achieve a measure of equity.</a:t>
            </a:r>
            <a:r>
              <a:rPr b="1" lang="en-US" sz="2400" spc="-1" strike="noStrike">
                <a:solidFill>
                  <a:srgbClr val="ffffff"/>
                </a:solidFill>
                <a:latin typeface="Arial Narrow"/>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 descr="http://www.stus.com/images/products/con0009.gif"/>
          <p:cNvPicPr/>
          <p:nvPr/>
        </p:nvPicPr>
        <p:blipFill>
          <a:blip r:embed="rId1"/>
          <a:stretch/>
        </p:blipFill>
        <p:spPr>
          <a:xfrm>
            <a:off x="457200" y="533520"/>
            <a:ext cx="3581280" cy="2209680"/>
          </a:xfrm>
          <a:prstGeom prst="rect">
            <a:avLst/>
          </a:prstGeom>
          <a:ln w="0">
            <a:noFill/>
          </a:ln>
        </p:spPr>
      </p:pic>
      <p:pic>
        <p:nvPicPr>
          <p:cNvPr id="160" name="" descr="http://media.canada.com/e028eb9a-84d6-4def-93db-73f7261fb08f/tnr%20court%20final.jpg"/>
          <p:cNvPicPr/>
          <p:nvPr/>
        </p:nvPicPr>
        <p:blipFill>
          <a:blip r:embed="rId2"/>
          <a:stretch/>
        </p:blipFill>
        <p:spPr>
          <a:xfrm>
            <a:off x="4038480" y="533520"/>
            <a:ext cx="4419720" cy="2195280"/>
          </a:xfrm>
          <a:prstGeom prst="rect">
            <a:avLst/>
          </a:prstGeom>
          <a:ln w="0">
            <a:noFill/>
          </a:ln>
        </p:spPr>
      </p:pic>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360"/>
            <a:ext cx="8686800" cy="662940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Franklin Gothic Book"/>
              </a:rPr>
              <a:t>Post-Rodriguez Cases</a:t>
            </a: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Williams v. California-</a:t>
            </a:r>
            <a:r>
              <a:rPr b="1" i="1" lang="en-US" sz="2000" spc="-1" strike="noStrike">
                <a:solidFill>
                  <a:srgbClr val="ffffff"/>
                </a:solidFill>
                <a:latin typeface="Franklin Gothic Book"/>
              </a:rPr>
              <a:t> </a:t>
            </a:r>
            <a:r>
              <a:rPr b="1" lang="en-US" sz="2000" spc="-1" strike="noStrike">
                <a:solidFill>
                  <a:srgbClr val="ffffff"/>
                </a:solidFill>
                <a:latin typeface="Franklin Gothic Book"/>
              </a:rPr>
              <a:t>A landmark civil rights case which challenged the state to ensure quality learning conditions for millions of low-income students of color. The </a:t>
            </a:r>
            <a:r>
              <a:rPr b="1" i="1" lang="en-US" sz="2000" spc="-1" strike="noStrike">
                <a:solidFill>
                  <a:srgbClr val="ffffff"/>
                </a:solidFill>
                <a:latin typeface="Franklin Gothic Book"/>
              </a:rPr>
              <a:t>Williams</a:t>
            </a:r>
            <a:r>
              <a:rPr b="1" lang="en-US" sz="2000" spc="-1" strike="noStrike">
                <a:solidFill>
                  <a:srgbClr val="ffffff"/>
                </a:solidFill>
                <a:latin typeface="Franklin Gothic Book"/>
              </a:rPr>
              <a:t> settlement creates new standards for measuring whether schools have the basic conditions students need to learn such as textbooks, well-trained teachers and clean and safe school facilities. It also provides opportunities for communities to become involved and holds school officials accountable for showing how well schools are meeting these standards.</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CFE v. State of New York—</a:t>
            </a:r>
            <a:r>
              <a:rPr b="1" lang="en-US" sz="2000" spc="-1" strike="noStrike">
                <a:solidFill>
                  <a:srgbClr val="ffffff"/>
                </a:solidFill>
                <a:latin typeface="Franklin Gothic Book"/>
              </a:rPr>
              <a:t>The court held that NYC children were not receiving the constitutionally mandated opportunity for a sound basic education and ruled that the governor and legislature had to ensure that every school in New York City has the resources necessary to provide the opportunity for a sound basic education. </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Montoy v. State of Kansas—</a:t>
            </a:r>
            <a:r>
              <a:rPr b="1" lang="en-US" sz="2000" spc="-1" strike="noStrike">
                <a:solidFill>
                  <a:srgbClr val="ffffff"/>
                </a:solidFill>
                <a:latin typeface="Franklin Gothic Book"/>
              </a:rPr>
              <a:t>A state district court held that the state’s school finance plan violates the state constitution.  The court found that the state failed to distribute resources equitably among children who are equally entitled to a suitable education.  </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Franklin Gothic Book"/>
              </a:rPr>
              <a:t>Lewis E. v. Spagnolo—</a:t>
            </a:r>
            <a:r>
              <a:rPr b="1" lang="en-US" sz="2000" spc="-1" strike="noStrike">
                <a:solidFill>
                  <a:srgbClr val="ffffff"/>
                </a:solidFill>
                <a:latin typeface="Franklin Gothic Book"/>
              </a:rPr>
              <a:t> A class of schoolchildren residing in East St. Louis School District 189 challenges the adequacy of the education being provided to them in District 189 schools. The courts ruled that that questions relating to the quality of a public school education are for the legislature, not the courts, to decide.</a:t>
            </a:r>
            <a:endParaRPr b="0" lang="en-US" sz="2000" spc="-1" strike="noStrike">
              <a:solidFill>
                <a:srgbClr val="ffffff"/>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12:10:15Z</dcterms:created>
  <dc:creator>Colin Fry</dc:creator>
  <dc:description/>
  <dc:language>en-US</dc:language>
  <cp:lastModifiedBy>Colin Fry</cp:lastModifiedBy>
  <dcterms:modified xsi:type="dcterms:W3CDTF">2009-07-26T13:33:58Z</dcterms:modified>
  <cp:revision>3</cp:revision>
  <dc:subject/>
  <dc:title>Chapter 13 Finance</dc:title>
</cp:coreProperties>
</file>